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4C1-124B-41BC-9D82-316035B5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A23-322C-44AA-A9E4-BDE4DEDC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AFF-16B8-4F86-A5AF-3CE37B77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42F-7BD5-4855-B3CB-E834E31D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AD6D-85C2-4558-BBE2-F873E12C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1E05-92E2-49E5-903D-DFE111D5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042A-2123-4E37-97AC-D9A9C914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37D4-2921-46F5-A1AF-9EFFDF4C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4B17-A613-4A95-8AB8-26006AA1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50EB-1333-4872-8BFA-6BB3C88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2239-C258-405A-ABB6-BCB4B908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662-2E83-4F07-BE3D-CF335BF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3728-D253-41CF-B1FB-5769059F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D2F4-BF05-497C-9529-8650FF9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F307-D36D-4473-B739-E2D3E44B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DE13-7456-4A45-ACC8-D54F61C6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29D0-8342-4566-BEF5-4B4C9FED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6F2A-5EFF-4703-A282-7CFDE5A4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219F-FB29-4900-AFD7-DB8862E7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1B4C-BED7-48D6-80DB-4C0D2DBD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EC07-0A93-4291-8F02-3EE79A94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B72E-D121-4069-9584-7F6502D6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DB0-6B76-4B40-86F7-974CEEA2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D2FBF-8991-4AB0-B1C5-4E209EFC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1424-4719-4827-979F-1D613FE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F0F2-7833-4BAD-9751-261A0A8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1072-B08A-461F-B694-F263A85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7CE5-EBEA-4C56-B2C7-D0A1F184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16C9-3011-4285-A904-54188C4B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A681-D495-49CC-BE36-EC8F0385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AF4-E24C-4D77-8E20-221A0E2D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535-45BB-4572-80BB-199CE198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5FD-6F40-4C9D-9B3F-77FD8A92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A82-976F-4212-9C8C-1B293C1B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BC5-87DE-466F-96BF-823B7A15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AC7-59BF-4061-A082-B939C97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ducatcarhou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3D67-C842-47C5-8BFA-0669DE79346C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ducatcarhou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67E4-B911-4F7F-8E98-6EC22F8089A7}" type="slidenum">
              <a:rPr b="0" lang="ro-RO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F3B2-66DC-4ADC-99DB-BB43D4137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8231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un</a:t>
            </a:r>
            <a:r>
              <a:rPr b="0" lang="ro-RO" sz="4800" spc="-1" strike="noStrike">
                <a:solidFill>
                  <a:srgbClr val="ffff00"/>
                </a:solidFill>
                <a:latin typeface="Arial"/>
              </a:rPr>
              <a:t>ă ziua, copii!</a:t>
            </a:r>
            <a:endParaRPr b="1" lang="en-US" sz="4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u sunt elef</a:t>
            </a: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ănţelul Dumbo. Sunt foar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supărat că am pierdut-o pe mămica... M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ajutaţi s-o găsesc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494172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23+       =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5084640"/>
            <a:ext cx="93528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5148360" y="4941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7020000" y="4941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501336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0000"/>
                </a:solidFill>
                <a:latin typeface="Arial"/>
              </a:rPr>
              <a:t>27-       =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157720"/>
            <a:ext cx="93528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lastslide"/>
          </p:cNvPr>
          <p:cNvSpPr/>
          <p:nvPr/>
        </p:nvSpPr>
        <p:spPr>
          <a:xfrm>
            <a:off x="6948360" y="4941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4941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749840" cy="5086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211280" y="549000"/>
            <a:ext cx="49323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În junglă sunt 14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maimuţe.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Mai târzi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vin 1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Câte maimuţ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sunt acum în junglă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4643280" y="4653000"/>
            <a:ext cx="1511280" cy="112536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9005" h="21600">
                <a:moveTo>
                  <a:pt x="0" y="0"/>
                </a:moveTo>
                <a:lnTo>
                  <a:pt x="29005" y="0"/>
                </a:lnTo>
                <a:lnTo>
                  <a:pt x="29005" y="21600"/>
                </a:lnTo>
                <a:lnTo>
                  <a:pt x="0" y="21600"/>
                </a:lnTo>
                <a:close/>
              </a:path>
              <a:path fill="lightenLess" w="29005" h="21600">
                <a:moveTo>
                  <a:pt x="0" y="0"/>
                </a:moveTo>
                <a:lnTo>
                  <a:pt x="29005" y="0"/>
                </a:lnTo>
                <a:lnTo>
                  <a:pt x="27605" y="1400"/>
                </a:lnTo>
                <a:lnTo>
                  <a:pt x="1400" y="1400"/>
                </a:lnTo>
                <a:close/>
              </a:path>
              <a:path fill="darken" w="29005" h="21600">
                <a:moveTo>
                  <a:pt x="29005" y="0"/>
                </a:moveTo>
                <a:lnTo>
                  <a:pt x="29005" y="21600"/>
                </a:lnTo>
                <a:lnTo>
                  <a:pt x="27605" y="20200"/>
                </a:lnTo>
                <a:lnTo>
                  <a:pt x="27605" y="1400"/>
                </a:lnTo>
                <a:close/>
              </a:path>
              <a:path fill="darkenLess" w="29005" h="21600">
                <a:moveTo>
                  <a:pt x="29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05" y="20200"/>
                </a:lnTo>
                <a:close/>
              </a:path>
              <a:path fill="lighten" w="29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732720" y="4653000"/>
            <a:ext cx="1511280" cy="112536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9005" h="21600">
                <a:moveTo>
                  <a:pt x="0" y="0"/>
                </a:moveTo>
                <a:lnTo>
                  <a:pt x="29005" y="0"/>
                </a:lnTo>
                <a:lnTo>
                  <a:pt x="29005" y="21600"/>
                </a:lnTo>
                <a:lnTo>
                  <a:pt x="0" y="21600"/>
                </a:lnTo>
                <a:close/>
              </a:path>
              <a:path fill="lightenLess" w="29005" h="21600">
                <a:moveTo>
                  <a:pt x="0" y="0"/>
                </a:moveTo>
                <a:lnTo>
                  <a:pt x="29005" y="0"/>
                </a:lnTo>
                <a:lnTo>
                  <a:pt x="27605" y="1400"/>
                </a:lnTo>
                <a:lnTo>
                  <a:pt x="1400" y="1400"/>
                </a:lnTo>
                <a:close/>
              </a:path>
              <a:path fill="darken" w="29005" h="21600">
                <a:moveTo>
                  <a:pt x="29005" y="0"/>
                </a:moveTo>
                <a:lnTo>
                  <a:pt x="29005" y="21600"/>
                </a:lnTo>
                <a:lnTo>
                  <a:pt x="27605" y="20200"/>
                </a:lnTo>
                <a:lnTo>
                  <a:pt x="27605" y="1400"/>
                </a:lnTo>
                <a:close/>
              </a:path>
              <a:path fill="darkenLess" w="29005" h="21600">
                <a:moveTo>
                  <a:pt x="29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05" y="20200"/>
                </a:lnTo>
                <a:close/>
              </a:path>
              <a:path fill="lighten" w="29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380520"/>
            <a:ext cx="8591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7cc17"/>
                </a:solidFill>
                <a:latin typeface="Arial"/>
              </a:rPr>
              <a:t>    </a:t>
            </a:r>
            <a:r>
              <a:rPr b="1" lang="ro-RO" sz="4000" spc="-1" strike="noStrike">
                <a:solidFill>
                  <a:srgbClr val="00ffff"/>
                </a:solidFill>
                <a:latin typeface="Arial"/>
              </a:rPr>
              <a:t>La circ sunt 29 de porumbei. 12 dintre ei şi-au luat zborul.</a:t>
            </a:r>
            <a:br>
              <a:rPr sz="4000"/>
            </a:br>
            <a:r>
              <a:rPr b="1" lang="ro-RO" sz="4000" spc="-1" strike="noStrike">
                <a:solidFill>
                  <a:srgbClr val="00ffff"/>
                </a:solidFill>
                <a:latin typeface="Arial"/>
              </a:rPr>
              <a:t>    Câţi porumbei au rămas?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7308720" y="5373720"/>
            <a:ext cx="1511280" cy="112536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9005" h="21600">
                <a:moveTo>
                  <a:pt x="0" y="0"/>
                </a:moveTo>
                <a:lnTo>
                  <a:pt x="29005" y="0"/>
                </a:lnTo>
                <a:lnTo>
                  <a:pt x="29005" y="21600"/>
                </a:lnTo>
                <a:lnTo>
                  <a:pt x="0" y="21600"/>
                </a:lnTo>
                <a:close/>
              </a:path>
              <a:path fill="lightenLess" w="29005" h="21600">
                <a:moveTo>
                  <a:pt x="0" y="0"/>
                </a:moveTo>
                <a:lnTo>
                  <a:pt x="29005" y="0"/>
                </a:lnTo>
                <a:lnTo>
                  <a:pt x="27605" y="1400"/>
                </a:lnTo>
                <a:lnTo>
                  <a:pt x="1400" y="1400"/>
                </a:lnTo>
                <a:close/>
              </a:path>
              <a:path fill="darken" w="29005" h="21600">
                <a:moveTo>
                  <a:pt x="29005" y="0"/>
                </a:moveTo>
                <a:lnTo>
                  <a:pt x="29005" y="21600"/>
                </a:lnTo>
                <a:lnTo>
                  <a:pt x="27605" y="20200"/>
                </a:lnTo>
                <a:lnTo>
                  <a:pt x="27605" y="1400"/>
                </a:lnTo>
                <a:close/>
              </a:path>
              <a:path fill="darkenLess" w="29005" h="21600">
                <a:moveTo>
                  <a:pt x="29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05" y="20200"/>
                </a:lnTo>
                <a:close/>
              </a:path>
              <a:path fill="lighten" w="29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5148360" y="5373720"/>
            <a:ext cx="1511280" cy="112536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9005" h="21600">
                <a:moveTo>
                  <a:pt x="0" y="0"/>
                </a:moveTo>
                <a:lnTo>
                  <a:pt x="29005" y="0"/>
                </a:lnTo>
                <a:lnTo>
                  <a:pt x="29005" y="21600"/>
                </a:lnTo>
                <a:lnTo>
                  <a:pt x="0" y="21600"/>
                </a:lnTo>
                <a:close/>
              </a:path>
              <a:path fill="lightenLess" w="29005" h="21600">
                <a:moveTo>
                  <a:pt x="0" y="0"/>
                </a:moveTo>
                <a:lnTo>
                  <a:pt x="29005" y="0"/>
                </a:lnTo>
                <a:lnTo>
                  <a:pt x="27605" y="1400"/>
                </a:lnTo>
                <a:lnTo>
                  <a:pt x="1400" y="1400"/>
                </a:lnTo>
                <a:close/>
              </a:path>
              <a:path fill="darken" w="29005" h="21600">
                <a:moveTo>
                  <a:pt x="29005" y="0"/>
                </a:moveTo>
                <a:lnTo>
                  <a:pt x="29005" y="21600"/>
                </a:lnTo>
                <a:lnTo>
                  <a:pt x="27605" y="20200"/>
                </a:lnTo>
                <a:lnTo>
                  <a:pt x="27605" y="1400"/>
                </a:lnTo>
                <a:close/>
              </a:path>
              <a:path fill="darkenLess" w="29005" h="21600">
                <a:moveTo>
                  <a:pt x="29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05" y="20200"/>
                </a:lnTo>
                <a:close/>
              </a:path>
              <a:path fill="lighten" w="29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324000" y="-976320"/>
            <a:ext cx="9753840" cy="8150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ffff"/>
                </a:solidFill>
                <a:latin typeface="Arial"/>
              </a:rPr>
              <a:t>Ce bine e cu mami!</a:t>
            </a:r>
            <a:endParaRPr b="1" lang="en-US" sz="66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Abia aştept să fiu în braţele mamei!...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659640" y="5373720"/>
            <a:ext cx="1800000" cy="1008000"/>
          </a:xfrm>
          <a:custGeom>
            <a:avLst/>
            <a:gdLst>
              <a:gd name="textAreaLeft" fmla="*/ 65160 w 1800000"/>
              <a:gd name="textAreaRight" fmla="*/ 1734840 w 180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8565" h="21600">
                <a:moveTo>
                  <a:pt x="0" y="0"/>
                </a:moveTo>
                <a:lnTo>
                  <a:pt x="38565" y="0"/>
                </a:lnTo>
                <a:lnTo>
                  <a:pt x="38565" y="21600"/>
                </a:lnTo>
                <a:lnTo>
                  <a:pt x="0" y="21600"/>
                </a:lnTo>
                <a:close/>
              </a:path>
              <a:path fill="lightenLess" w="38565" h="21600">
                <a:moveTo>
                  <a:pt x="0" y="0"/>
                </a:moveTo>
                <a:lnTo>
                  <a:pt x="38565" y="0"/>
                </a:lnTo>
                <a:lnTo>
                  <a:pt x="37165" y="1400"/>
                </a:lnTo>
                <a:lnTo>
                  <a:pt x="1400" y="1400"/>
                </a:lnTo>
                <a:close/>
              </a:path>
              <a:path fill="darken" w="38565" h="21600">
                <a:moveTo>
                  <a:pt x="38565" y="0"/>
                </a:moveTo>
                <a:lnTo>
                  <a:pt x="38565" y="21600"/>
                </a:lnTo>
                <a:lnTo>
                  <a:pt x="37165" y="20200"/>
                </a:lnTo>
                <a:lnTo>
                  <a:pt x="37165" y="1400"/>
                </a:lnTo>
                <a:close/>
              </a:path>
              <a:path fill="darkenLess" w="38565" h="21600">
                <a:moveTo>
                  <a:pt x="38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65" y="20200"/>
                </a:lnTo>
                <a:close/>
              </a:path>
              <a:path fill="lighten" w="38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65" h="21600">
                <a:moveTo>
                  <a:pt x="12276" y="7493"/>
                </a:moveTo>
                <a:lnTo>
                  <a:pt x="15784" y="7493"/>
                </a:lnTo>
                <a:lnTo>
                  <a:pt x="15784" y="12828"/>
                </a:lnTo>
                <a:cubicBezTo>
                  <a:pt x="15784" y="13751"/>
                  <a:pt x="16585" y="14482"/>
                  <a:pt x="17620" y="14482"/>
                </a:cubicBezTo>
                <a:lnTo>
                  <a:pt x="19283" y="14482"/>
                </a:lnTo>
                <a:cubicBezTo>
                  <a:pt x="20318" y="14482"/>
                  <a:pt x="21119" y="13751"/>
                  <a:pt x="21119" y="12828"/>
                </a:cubicBezTo>
                <a:lnTo>
                  <a:pt x="21119" y="7493"/>
                </a:lnTo>
                <a:lnTo>
                  <a:pt x="19283" y="7493"/>
                </a:lnTo>
                <a:lnTo>
                  <a:pt x="22790" y="3985"/>
                </a:lnTo>
                <a:lnTo>
                  <a:pt x="26463" y="7493"/>
                </a:lnTo>
                <a:lnTo>
                  <a:pt x="24627" y="7493"/>
                </a:lnTo>
                <a:lnTo>
                  <a:pt x="24627" y="12828"/>
                </a:lnTo>
                <a:cubicBezTo>
                  <a:pt x="24627" y="15596"/>
                  <a:pt x="22050" y="18155"/>
                  <a:pt x="19283" y="18155"/>
                </a:cubicBezTo>
                <a:lnTo>
                  <a:pt x="17620" y="18155"/>
                </a:lnTo>
                <a:cubicBezTo>
                  <a:pt x="14852" y="18155"/>
                  <a:pt x="12276" y="15596"/>
                  <a:pt x="12276" y="12828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ff00"/>
                </a:solidFill>
                <a:latin typeface="Arial"/>
              </a:rPr>
              <a:t>Te rog, mai încearcă!</a:t>
            </a:r>
            <a:endParaRPr b="1" lang="en-US" sz="6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6804000" y="5300640"/>
            <a:ext cx="1800360" cy="1008000"/>
          </a:xfrm>
          <a:custGeom>
            <a:avLst/>
            <a:gdLst>
              <a:gd name="textAreaLeft" fmla="*/ 65160 w 1800360"/>
              <a:gd name="textAreaRight" fmla="*/ 1735200 w 1800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8573" h="21600">
                <a:moveTo>
                  <a:pt x="0" y="0"/>
                </a:moveTo>
                <a:lnTo>
                  <a:pt x="38573" y="0"/>
                </a:lnTo>
                <a:lnTo>
                  <a:pt x="38573" y="21600"/>
                </a:lnTo>
                <a:lnTo>
                  <a:pt x="0" y="21600"/>
                </a:lnTo>
                <a:close/>
              </a:path>
              <a:path fill="lightenLess" w="38573" h="21600">
                <a:moveTo>
                  <a:pt x="0" y="0"/>
                </a:moveTo>
                <a:lnTo>
                  <a:pt x="38573" y="0"/>
                </a:lnTo>
                <a:lnTo>
                  <a:pt x="37173" y="1400"/>
                </a:lnTo>
                <a:lnTo>
                  <a:pt x="1400" y="1400"/>
                </a:lnTo>
                <a:close/>
              </a:path>
              <a:path fill="darken" w="38573" h="21600">
                <a:moveTo>
                  <a:pt x="38573" y="0"/>
                </a:moveTo>
                <a:lnTo>
                  <a:pt x="38573" y="21600"/>
                </a:lnTo>
                <a:lnTo>
                  <a:pt x="37173" y="20200"/>
                </a:lnTo>
                <a:lnTo>
                  <a:pt x="37173" y="1400"/>
                </a:lnTo>
                <a:close/>
              </a:path>
              <a:path fill="darkenLess" w="38573" h="21600">
                <a:moveTo>
                  <a:pt x="38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3" y="20200"/>
                </a:lnTo>
                <a:close/>
              </a:path>
              <a:path fill="lighten" w="38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3" h="21600">
                <a:moveTo>
                  <a:pt x="12280" y="7493"/>
                </a:moveTo>
                <a:lnTo>
                  <a:pt x="15788" y="7493"/>
                </a:lnTo>
                <a:lnTo>
                  <a:pt x="15788" y="12828"/>
                </a:lnTo>
                <a:cubicBezTo>
                  <a:pt x="15788" y="13751"/>
                  <a:pt x="16588" y="14482"/>
                  <a:pt x="17624" y="14482"/>
                </a:cubicBezTo>
                <a:lnTo>
                  <a:pt x="19287" y="14482"/>
                </a:lnTo>
                <a:cubicBezTo>
                  <a:pt x="20322" y="14482"/>
                  <a:pt x="21123" y="13751"/>
                  <a:pt x="21123" y="12828"/>
                </a:cubicBezTo>
                <a:lnTo>
                  <a:pt x="21123" y="7493"/>
                </a:lnTo>
                <a:lnTo>
                  <a:pt x="19287" y="7493"/>
                </a:lnTo>
                <a:lnTo>
                  <a:pt x="22794" y="3985"/>
                </a:lnTo>
                <a:lnTo>
                  <a:pt x="26467" y="7493"/>
                </a:lnTo>
                <a:lnTo>
                  <a:pt x="24631" y="7493"/>
                </a:lnTo>
                <a:lnTo>
                  <a:pt x="24631" y="12828"/>
                </a:lnTo>
                <a:cubicBezTo>
                  <a:pt x="24631" y="15596"/>
                  <a:pt x="22054" y="18155"/>
                  <a:pt x="19287" y="18155"/>
                </a:cubicBezTo>
                <a:lnTo>
                  <a:pt x="17624" y="18155"/>
                </a:lnTo>
                <a:cubicBezTo>
                  <a:pt x="14856" y="18155"/>
                  <a:pt x="12280" y="15596"/>
                  <a:pt x="12280" y="12828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40464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13 + 1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16000" y="40464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15 + 1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40464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27 - 1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58920" y="476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29 - 2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lastslide"/>
          </p:cNvPr>
          <p:cNvSpPr/>
          <p:nvPr/>
        </p:nvSpPr>
        <p:spPr>
          <a:xfrm>
            <a:off x="6948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8360" y="40464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11+18- 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40464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6+20-1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5280" y="3573360"/>
            <a:ext cx="42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Măreşte numărul 22 cu 7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4788000" y="5157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16720" y="5157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3573360"/>
            <a:ext cx="42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Micşorează numărul 27 cu 7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lastslide"/>
          </p:cNvPr>
          <p:cNvSpPr/>
          <p:nvPr/>
        </p:nvSpPr>
        <p:spPr>
          <a:xfrm>
            <a:off x="6948360" y="5157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5157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46:41Z</dcterms:created>
  <dc:creator>Liliana</dc:creator>
  <dc:description/>
  <dc:language>en-US</dc:language>
  <cp:lastModifiedBy>Liliana</cp:lastModifiedBy>
  <dcterms:modified xsi:type="dcterms:W3CDTF">2009-04-07T18:42:33Z</dcterms:modified>
  <cp:revision>3</cp:revision>
  <dc:subject/>
  <dc:title>Bună ziua, copii! </dc:title>
</cp:coreProperties>
</file>